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F1C-B161-4F19-93A7-A9114FD1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A84-59CD-44A5-B2B6-A3725863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F1E-3AE6-4567-BF32-65C63394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6FD-31DD-47A5-9673-CC683504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372-D4FD-4A91-A9E2-55DACEEC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4AF-09C8-474C-8260-8E625520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45F-AE25-41AB-A9FB-B5077867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689-FF6F-4CA1-875C-3236A450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808-60CC-4847-A013-C2357875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A7E-B8C0-4FD4-8453-63E893F4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C19-EE46-41D0-B66E-73210912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F8C-3E4B-456B-AB5E-F0E2ADA9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4D14-B2F5-4045-A673-A1BF86B48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05120" y="2971800"/>
            <a:ext cx="571500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ус - туй чудесно им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ълно е със благости !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ва то във всяко врем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ир любов и радости !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848720" y="6095880"/>
            <a:ext cx="5904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 / 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523880" y="2971800"/>
            <a:ext cx="637236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[: Славно е, славно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се вярва в туй име ! 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905120" y="2971800"/>
            <a:ext cx="571500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в Исусовото им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ще вървим ний все напред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рез Него ще победим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ш'те врагове напред !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48720" y="6095880"/>
            <a:ext cx="5904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/ 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523880" y="2971800"/>
            <a:ext cx="637236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[: Славно е, славно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се вярва в туй име ! 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9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905120" y="2971800"/>
            <a:ext cx="571500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лко скъпо за нас им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 това на наший Спас,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греха ни то избавя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е силен щит за нас !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848720" y="6095880"/>
            <a:ext cx="5904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3 / 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523880" y="2971800"/>
            <a:ext cx="637236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[: Славно е, славно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се вярва в туй име ! 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8088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828800" y="3581280"/>
            <a:ext cx="571500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, възпейте вий туй име,</a:t>
            </a:r>
            <a:endParaRPr b="0" i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азгласете го навред,</a:t>
            </a:r>
            <a:endParaRPr b="0" i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окле целий свят го чуе</a:t>
            </a:r>
            <a:endParaRPr b="0" i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ще му даде ответ !</a:t>
            </a:r>
            <a:endParaRPr b="0" i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48720" y="6095880"/>
            <a:ext cx="5904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4 / 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1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523880" y="2971800"/>
            <a:ext cx="637236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[: Славно е, славно 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се вярва в туй име ! :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fonTrifonow</cp:lastModifiedBy>
  <dcterms:modified xsi:type="dcterms:W3CDTF">2005-11-22T07:01:0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